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3679-C570-4FAB-97BE-ED0F909D01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lgebra</a:t>
            </a: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Gr. 6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difference between an expression and an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has an equal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xplain the difference between an expression and an equatio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quation has an equal sign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9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(9 + 3)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9s - 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area of the wall that Keesha will paint?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 l x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 18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  64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10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is the area of the wall that Keesha will paint?  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 =  l x 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number should replace 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number should replace 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+ 2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58B-D5D1-4EBB-9DDD-A0C5E077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4DBC-20B2-4AD8-AF37-A7CBC4A5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C96-4248-41D3-B608-53058B80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8DE5-20E0-4D7D-9982-EDB2C56E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F06A-6F41-4FAF-90ED-1524425D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6FCE-0947-491B-8AD5-0D365073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386A-E085-45C2-B5D4-B401191C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4B8E-6CF5-43A8-9F21-01BBB8E9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B657-639C-427D-8CD9-BA88CCD9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1F4C-B083-4666-B6A9-3E2F8C2F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4F90-9496-46A5-81E5-D0C88572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AF9-E2C4-4275-8F6A-C297998F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5FA2-C064-45A8-AECB-FCAADC74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293A-54D8-4BC8-B823-50DF0611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3D42-E712-4937-95DB-B7A67E69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92BE-B3A3-4F69-A999-235C3D80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71A9-274B-4E50-A506-7D7AF9BC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9472-79A2-484E-B0A1-4CF1CD38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680-1C45-4327-A56E-9F1EDD5E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024-0513-4A00-9DA4-E774D3F5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8C02-CE53-453F-896D-AF033D70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BEF-8166-491F-AB0B-A4F50208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4F0-0068-4877-9A90-1083E8BF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AE2-E6C2-4B80-8C4D-0DB382E9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1B1F-0314-48F5-8793-E8A1E51AD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37FD-22B5-4618-BACC-AAADBF9F1A33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6666"/>
                </a:solidFill>
                <a:latin typeface="Verdana"/>
              </a:rPr>
              <a:t>Algebra</a:t>
            </a:r>
            <a:br>
              <a:rPr sz="52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Gr. 6</a:t>
            </a:r>
            <a:br>
              <a:rPr sz="52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2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Explain the difference between an expression and an equation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Equation has an equal sign.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Which expression represents the number of stamps Sarah has left?</a:t>
            </a:r>
            <a:br>
              <a:rPr sz="40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s,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n each envelope. She sells 3 of the envelop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hat is the area of the wall that Keesha will paint?    </a:t>
            </a:r>
            <a:r>
              <a:rPr b="1" i="1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 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l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x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What number should replace n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rite an expression for the number of hummingbirds Lewis saw on Saturday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h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. On Saturday, he saw 3 more than twice the number of hummingbirds he saw on Friday. Write your answ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35:40Z</dcterms:modified>
  <cp:revision>9</cp:revision>
  <dc:subject/>
  <dc:title>Percent</dc:title>
</cp:coreProperties>
</file>